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944-B6BB-418F-B32E-445D374D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7E3-82CE-40D6-A401-7531CD32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221-007D-470C-AA4A-F1F5A39E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D52-55EA-43E4-9081-1D43997D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CD0-F07F-4E23-8A67-901617F1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BAC-C076-423E-BB05-9929B64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24C-678D-4AA0-85CE-88BA6C48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193-3C6F-4296-B960-9AD8350F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147-E686-45BD-A662-751D26B3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949-C76A-46F3-B176-0A492B1A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2D4-95B5-43EE-B9E6-3FE0B35B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D29-8822-4457-BC73-ADE5256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359B-5A9A-47BE-BA7C-A8AC3C61709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356000" y="1052640"/>
            <a:ext cx="42879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6"/>
          <p:cNvGrpSpPr/>
          <p:nvPr/>
        </p:nvGrpSpPr>
        <p:grpSpPr>
          <a:xfrm>
            <a:off x="755640" y="425520"/>
            <a:ext cx="7824960" cy="2155680"/>
            <a:chOff x="755640" y="425520"/>
            <a:chExt cx="7824960" cy="2155680"/>
          </a:xfrm>
        </p:grpSpPr>
        <p:sp>
          <p:nvSpPr>
            <p:cNvPr id="44" name="Text Box 6"/>
            <p:cNvSpPr/>
            <p:nvPr/>
          </p:nvSpPr>
          <p:spPr>
            <a:xfrm>
              <a:off x="3225600" y="425520"/>
              <a:ext cx="256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0000"/>
                  </a:solidFill>
                  <a:latin typeface="Bodoni MT"/>
                </a:rPr>
                <a:t>I  D O N I</a:t>
              </a:r>
              <a:r>
                <a:rPr b="1" lang="it-IT" sz="4000" spc="-1" strike="noStrike">
                  <a:solidFill>
                    <a:srgbClr val="ff0000"/>
                  </a:solidFill>
                  <a:latin typeface="Harringto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755640" y="1268280"/>
              <a:ext cx="782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0000"/>
                  </a:solidFill>
                  <a:latin typeface="Bodoni MT"/>
                </a:rPr>
                <a:t>D E L L O   S P I R I T O   S A N T 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12" descr="7E699BC4"/>
          <p:cNvPicPr/>
          <p:nvPr/>
        </p:nvPicPr>
        <p:blipFill>
          <a:blip r:embed="rId2"/>
          <a:stretch/>
        </p:blipFill>
        <p:spPr>
          <a:xfrm>
            <a:off x="1908000" y="2997360"/>
            <a:ext cx="5040360" cy="33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0" y="5084640"/>
            <a:ext cx="56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on sprecare pertanto le tue risors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io ci ha tanto am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a chiamarci tutti ad un grande v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nsigliati con lo Spirito, e parti!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0" y="189000"/>
            <a:ext cx="9144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 </a:t>
            </a: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IL DONO DEL CONSIG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336840" y="836640"/>
            <a:ext cx="58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 è necessaria una matura rifl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ima di prendere una decisio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è altrettanto necessar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ndo la decisione è 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ella luce dello Spirito San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ssare prontamente all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zio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ché - come dice un proverbio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strada del po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riva alla città del mai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oro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0" y="189000"/>
            <a:ext cx="5327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FORTEZZA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dal vocabolario:</a:t>
            </a:r>
            <a:br>
              <a:rPr sz="4400"/>
            </a:b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“</a:t>
            </a: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capacità di saper affrontare le situazioni difficili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7708A612"/>
          <p:cNvPicPr/>
          <p:nvPr/>
        </p:nvPicPr>
        <p:blipFill>
          <a:blip r:embed="rId2"/>
          <a:stretch/>
        </p:blipFill>
        <p:spPr>
          <a:xfrm>
            <a:off x="5684760" y="620640"/>
            <a:ext cx="3459240" cy="5761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539640" y="3540240"/>
            <a:ext cx="4572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Ti amo, Signore, mia forz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ignore, mia rocc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mia fortezza, mio liberato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mio Dio, mia rup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in cui trovo ripa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mio scudo e baluar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mia potente salvez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almo 18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LA FORTEZZA UN DONO P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70022748"/>
          <p:cNvPicPr/>
          <p:nvPr/>
        </p:nvPicPr>
        <p:blipFill>
          <a:blip r:embed="rId2"/>
          <a:stretch/>
        </p:blipFill>
        <p:spPr>
          <a:xfrm>
            <a:off x="0" y="1557360"/>
            <a:ext cx="3768840" cy="3600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296320" y="148428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vere co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0" y="5734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Beati coloro che hanno fame e sete di giustiz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erché saranno saziati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070880" y="242100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stimoniare la propria f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4359960" y="335772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iutare chi è scoragg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4789800" y="450864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sistere alle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0" y="189000"/>
            <a:ext cx="9144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IL DONO DELLA FORTE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160" y="3776760"/>
            <a:ext cx="649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Uno scrittore dei primi se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el Cristianesimo paragon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lo Spirito Santo all'allena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L'allenatore, si sa, prepara alla fatic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ice ai suoi ragazz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«Non c'è medaglia d'o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he non sia inzuppata di sudore».</a:t>
            </a:r>
            <a:r>
              <a:rPr b="1" lang="it-IT" sz="28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125360"/>
            <a:ext cx="49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al mondo il meglio di t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 ti prenderanno a cal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on impor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il meglio di 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3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0"/>
            <a:ext cx="53276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SCIENZA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dal latino 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“</a:t>
            </a: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scire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”</a:t>
            </a: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=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conos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20DD1B7E"/>
          <p:cNvPicPr/>
          <p:nvPr/>
        </p:nvPicPr>
        <p:blipFill>
          <a:blip r:embed="rId2"/>
          <a:stretch/>
        </p:blipFill>
        <p:spPr>
          <a:xfrm>
            <a:off x="5880240" y="620640"/>
            <a:ext cx="3263760" cy="57546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684360" y="4005360"/>
            <a:ext cx="457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O Signore, nostro D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quanto è grande il Tuo nome su tutta la ter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opra i cieli si innal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la tua magnific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almo 8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LA SCIENZA UN DONO P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C7633496"/>
          <p:cNvPicPr/>
          <p:nvPr/>
        </p:nvPicPr>
        <p:blipFill>
          <a:blip r:embed="rId2"/>
          <a:stretch/>
        </p:blipFill>
        <p:spPr>
          <a:xfrm>
            <a:off x="0" y="1989000"/>
            <a:ext cx="4718160" cy="3600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4458600" y="3933720"/>
            <a:ext cx="46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struire un mondo nu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393080" y="5084640"/>
            <a:ext cx="47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rvire il bene del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man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66160" y="198900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vvicinarsi a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295960" y="292428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rescere nel b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0" y="602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Beati gli afflitti, perché saranno consolati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bd1438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5144400" y="40053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0" y="981000"/>
            <a:ext cx="4500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hi ama capisce megli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apisce prim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apisce di pi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erte notizi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le dà solo  il cu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erché le pers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on si impar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i comprendono. 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erché solam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hi ama ha il dirit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i educare; 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olamente chi abbrac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uò essere g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  </a:t>
            </a: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IL DONO DELLA SCI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260680" y="1125360"/>
            <a:ext cx="41598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el profeta Isa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he per primo enu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 doni dello Spirito S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(cf Is 1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Questo dono è espr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ol termine «conoscenza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Tale parola nella Bibb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ignifica anche «amare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(Gn 19,8; Mt 1,25)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674960" y="5911920"/>
            <a:ext cx="44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nche Dio lo compren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lo se ti innamori di L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0" y="0"/>
            <a:ext cx="532764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PIETA</a:t>
            </a:r>
            <a:r>
              <a:rPr b="1" lang="ja-JP" sz="4400" spc="-1" strike="noStrike">
                <a:solidFill>
                  <a:srgbClr val="ff0000"/>
                </a:solidFill>
                <a:latin typeface="Bodoni MT"/>
              </a:rPr>
              <a:t>’</a:t>
            </a: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dal latino 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“</a:t>
            </a: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pietas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”</a:t>
            </a: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=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amore dei figli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verso il pa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7D81D43C"/>
          <p:cNvPicPr/>
          <p:nvPr/>
        </p:nvPicPr>
        <p:blipFill>
          <a:blip r:embed="rId2"/>
          <a:stretch/>
        </p:blipFill>
        <p:spPr>
          <a:xfrm>
            <a:off x="5807160" y="476280"/>
            <a:ext cx="3336840" cy="57625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11280" y="4221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Voglio l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a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e non il sacrific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la conoscenza di 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più degli olocau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Osea 6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LA PIETA</a:t>
            </a:r>
            <a:r>
              <a:rPr b="1" lang="ja-JP" sz="3600" spc="-1" strike="noStrike">
                <a:solidFill>
                  <a:srgbClr val="ff0000"/>
                </a:solidFill>
                <a:latin typeface="Bodoni MT"/>
              </a:rPr>
              <a:t>’</a:t>
            </a: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 UN DONO P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5B24F042"/>
          <p:cNvPicPr/>
          <p:nvPr/>
        </p:nvPicPr>
        <p:blipFill>
          <a:blip r:embed="rId2"/>
          <a:stretch/>
        </p:blipFill>
        <p:spPr>
          <a:xfrm>
            <a:off x="5218200" y="1773360"/>
            <a:ext cx="3925800" cy="3598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184680" y="263700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conoscere Dio come u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70880" y="148428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redere al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more di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29440" y="393372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mparare ad a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6840" y="5013360"/>
            <a:ext cx="56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ssere uno strumento accord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0" y="602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Beati i miti, perché erediteranno la terra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0" y="4630680"/>
            <a:ext cx="6237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dre che è come il m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regge chi gli si abbandona, 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dre che è l'ultimo a lascia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mpressionare dalle mie sbandate, 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dre che asciugherà ogni lacri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319640" y="836640"/>
            <a:ext cx="4824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dono della Pie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orta a fidarci di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 lo stesso abband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 un bamb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he s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nte sicur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ra le braccia del pap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nche qu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è sospeso sull'abiss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 </a:t>
            </a: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IL DONO DELLA PIETA</a:t>
            </a:r>
            <a:r>
              <a:rPr b="1" lang="ja-JP" sz="4400" spc="-1" strike="noStrike">
                <a:solidFill>
                  <a:srgbClr val="ff0000"/>
                </a:solidFill>
                <a:latin typeface="Bodoni MT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936CEBD8"/>
          <p:cNvPicPr/>
          <p:nvPr/>
        </p:nvPicPr>
        <p:blipFill>
          <a:blip r:embed="rId2"/>
          <a:stretch/>
        </p:blipFill>
        <p:spPr>
          <a:xfrm>
            <a:off x="5668920" y="620640"/>
            <a:ext cx="3487680" cy="5757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764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 </a:t>
            </a: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SAPIENZA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dal latino 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“</a:t>
            </a: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sapere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”</a:t>
            </a: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=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aver sap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44240" y="3789360"/>
            <a:ext cx="49950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Tutto ciò che è nasco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e ciò che è palese io lo 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poiché mi ha istruito la Sapienz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artefice di tutte le c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apienza 7,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0" y="0"/>
            <a:ext cx="558000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TIMORE DI DIO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dal vocabolario:</a:t>
            </a:r>
            <a:br>
              <a:rPr sz="4400"/>
            </a:b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“</a:t>
            </a: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sentimento di rispetto, paura di far soffrire 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543411AA"/>
          <p:cNvPicPr/>
          <p:nvPr/>
        </p:nvPicPr>
        <p:blipFill>
          <a:blip r:embed="rId2"/>
          <a:stretch/>
        </p:blipFill>
        <p:spPr>
          <a:xfrm>
            <a:off x="5823000" y="620640"/>
            <a:ext cx="3321000" cy="57578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0" y="3716280"/>
            <a:ext cx="55450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loro che temono il Signore non disobbediscono alle sue paro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e coloro che lo amano seguono le sue vi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Gettiamoci nelle braccia del Signore e non nelle braccia degli uomini; poiché, quale è la sua grandezza, tale è anche la sua misericor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iracide 2,15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IL TIMOR DI DIO UN DONO P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0" y="126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pettare Dio e accorgerci che non siamo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805800" y="220500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re il b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510880" y="321300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rescere nella gio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6446520" y="4508640"/>
            <a:ext cx="24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scoltare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0" y="5734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Beati i poveri in Spiri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erché di essi è il regno dei cieli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3" descr="87E8C53C"/>
          <p:cNvPicPr/>
          <p:nvPr/>
        </p:nvPicPr>
        <p:blipFill>
          <a:blip r:embed="rId2"/>
          <a:stretch/>
        </p:blipFill>
        <p:spPr>
          <a:xfrm>
            <a:off x="0" y="2133720"/>
            <a:ext cx="47498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 </a:t>
            </a: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IL DONO DEL TIMOR  DI  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83664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io è Dio e io sono un uomo. 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io è il creatore e io la sua creatura. 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io è la fonte, io l'assetato. 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io è il mare, io la goccia. 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io è la corrente, io il filo. 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io è potente, io deb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io è santo, io pecca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l dono del timor di 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mi ricorda che d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nginocchia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e voglio innalzar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mi convince che sono povero: 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mi spinge ad alzare le mani e pregare con amore: 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poiché se è vero che sono un nulla, 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ono un nulla abbracci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a te che sei Tu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LA SAPIENZA UN DONO P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68535DE"/>
          <p:cNvPicPr/>
          <p:nvPr/>
        </p:nvPicPr>
        <p:blipFill>
          <a:blip r:embed="rId2"/>
          <a:stretch/>
        </p:blipFill>
        <p:spPr>
          <a:xfrm>
            <a:off x="395280" y="1989000"/>
            <a:ext cx="3932280" cy="3135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116676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4789440" y="177336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prirci la 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790520" y="3500280"/>
            <a:ext cx="36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mare le cose di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788720" y="4437000"/>
            <a:ext cx="406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re le scelte della v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la luce del Vange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21040" y="270828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nsare come Ges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89000" y="5900760"/>
            <a:ext cx="88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Beati gli operatori di pace, perché saranno chiamati Figli di Dio</a:t>
            </a:r>
            <a:r>
              <a:rPr b="1" i="1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515280" y="384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539640" y="189000"/>
            <a:ext cx="8202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 </a:t>
            </a: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Il DONO DELLA  SAPI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777960"/>
            <a:ext cx="719928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scienza non bast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scienza ci dice quel che è possibi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sapienza quel che è lecit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scienza guarisce le ma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sapienza ci insegna ad usarl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scienza prepara cuori artificial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sapienza cuori saggi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scienza ci fa poten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sapienza ci fa uomini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È vero che s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scienza la vita si arresta,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a senza la sapi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mbarbaris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3564000" y="0"/>
            <a:ext cx="5580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INTELLETTO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dal latino 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“</a:t>
            </a: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intus-legere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”</a:t>
            </a: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= 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leggere dentro, in profond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7702B7A6"/>
          <p:cNvPicPr/>
          <p:nvPr/>
        </p:nvPicPr>
        <p:blipFill>
          <a:blip r:embed="rId2"/>
          <a:stretch/>
        </p:blipFill>
        <p:spPr>
          <a:xfrm>
            <a:off x="0" y="692280"/>
            <a:ext cx="3468600" cy="5754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865680" y="3905280"/>
            <a:ext cx="52815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Quelle cose che occhio non vi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né orecchio udì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né mai entrarono in cuore di uom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queste ha preparato 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per coloro che lo a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1Cor 2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L</a:t>
            </a:r>
            <a:r>
              <a:rPr b="1" lang="ja-JP" sz="3600" spc="-1" strike="noStrike">
                <a:solidFill>
                  <a:srgbClr val="ff0000"/>
                </a:solidFill>
                <a:latin typeface="Bodoni MT"/>
              </a:rPr>
              <a:t>’</a:t>
            </a: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INTELLETTO UN DONO P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FF97A20A"/>
          <p:cNvPicPr/>
          <p:nvPr/>
        </p:nvPicPr>
        <p:blipFill>
          <a:blip r:embed="rId2"/>
          <a:stretch/>
        </p:blipFill>
        <p:spPr>
          <a:xfrm>
            <a:off x="0" y="1916280"/>
            <a:ext cx="3819600" cy="3493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7165800" y="191628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flet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512320" y="3860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temp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519240" y="278136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edi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856320" y="479736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ndare in profond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82200" y="5877000"/>
            <a:ext cx="78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Beati i puri di cuore perché vedranno Dio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A_aleinad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183280" y="907920"/>
            <a:ext cx="396072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i ammonis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i saggio! Infatti, an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 un asino app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ille volte in televisio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n potrà diven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i un cavallo!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condo la prome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Ges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ndo verrà lo Spir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verità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gli vi guider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la verità tutta intera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0" y="18900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IL DONO DELL</a:t>
            </a:r>
            <a:r>
              <a:rPr b="1" lang="ja-JP" sz="3600" spc="-1" strike="noStrike">
                <a:solidFill>
                  <a:srgbClr val="ff0000"/>
                </a:solidFill>
                <a:latin typeface="Bodoni MT"/>
              </a:rPr>
              <a:t>’</a:t>
            </a: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INTELL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0" y="3114720"/>
            <a:ext cx="414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Quello dell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telletto è il dono d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«profondità»  contro la «superficialità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l dono dell'«essere» contro l'«apparire»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Quello dell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telletto è il dono che mi di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«Usa il cervello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oro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0"/>
            <a:ext cx="525636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odoni MT"/>
              </a:rPr>
              <a:t>CONSIGLIO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dal latino 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“</a:t>
            </a: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consulere</a:t>
            </a:r>
            <a:r>
              <a:rPr b="0" i="1" lang="ja-JP" sz="4400" spc="-1" strike="noStrike">
                <a:solidFill>
                  <a:srgbClr val="ff0000"/>
                </a:solidFill>
                <a:latin typeface="Bodoni MT"/>
              </a:rPr>
              <a:t>”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=</a:t>
            </a:r>
            <a:br>
              <a:rPr sz="4400"/>
            </a:br>
            <a:r>
              <a:rPr b="0" i="1" lang="it-IT" sz="4400" spc="-1" strike="noStrike">
                <a:solidFill>
                  <a:srgbClr val="ff0000"/>
                </a:solidFill>
                <a:latin typeface="Bodoni MT"/>
              </a:rPr>
              <a:t>decid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1344AA4"/>
          <p:cNvPicPr/>
          <p:nvPr/>
        </p:nvPicPr>
        <p:blipFill>
          <a:blip r:embed="rId2"/>
          <a:stretch/>
        </p:blipFill>
        <p:spPr>
          <a:xfrm>
            <a:off x="5718240" y="549360"/>
            <a:ext cx="3425760" cy="5757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-4680" y="3860640"/>
            <a:ext cx="6112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Bened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il Sign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he mi ha dato consigl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anche di notte il mio cuore mi istruis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Io pongo sempre innanzi a me il Signo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ta alla mia destra, non posso vacill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almo 16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o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Bodoni MT"/>
              </a:rPr>
              <a:t>IL CONSIGLIO UN DONO P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2F9E1A74"/>
          <p:cNvPicPr/>
          <p:nvPr/>
        </p:nvPicPr>
        <p:blipFill>
          <a:blip r:embed="rId2"/>
          <a:stretch/>
        </p:blipFill>
        <p:spPr>
          <a:xfrm>
            <a:off x="5599080" y="1844640"/>
            <a:ext cx="3544920" cy="3219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326880" y="1700280"/>
            <a:ext cx="44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egliere la strada gi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54520" y="2565360"/>
            <a:ext cx="47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pondere alla voce di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975600" y="350028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llaborare con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55600" y="443700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alizzare un grande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975120" y="560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11148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341964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254160" y="5734080"/>
            <a:ext cx="87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Beati i misericordiosi, perché otterranno misericordia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50:30Z</dcterms:created>
  <dc:creator>Marcello</dc:creator>
  <dc:description/>
  <dc:language>en-US</dc:language>
  <cp:lastModifiedBy>Agire</cp:lastModifiedBy>
  <dcterms:modified xsi:type="dcterms:W3CDTF">2016-11-30T10:44:44Z</dcterms:modified>
  <cp:revision>58</cp:revision>
  <dc:subject/>
  <dc:title>Diapositiva 1</dc:title>
</cp:coreProperties>
</file>